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BA5-1FE2-40C1-BBD4-0AB2CC0D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3271-B219-44E5-8224-560590C6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12F5E-09FD-4886-A2B2-94C2C8BF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1EA71-3394-4AB4-930C-7094BE373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325C1-60BA-484B-94CB-14E0EBEF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470C53-6FF2-48F0-87FD-960E296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36F2B-D7C8-4657-B0F5-41E6CB48B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A1634-EAD2-4EAD-BAF7-4A24765D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5D307-A9B7-4185-B386-79AE2A4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C639FE-5609-4206-B7E9-0F7468AE2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4F9D4-9F59-4CD5-AAC0-E5EE6E51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3D6053-62B2-48E4-99DD-43C40BD5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93AD-D1F3-49E4-B223-3B09139C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244B0-0537-489F-A060-BF8AA73F5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1FC5E-BDF9-48DF-B9F9-2E437A19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3CAB5-AA27-4B4B-95B6-D02E82F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94BD0-F57A-49A0-BC88-4C4C2DFF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59173-5F71-429F-A436-CF71A926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E753E-A3B6-489C-B76A-53B47C9F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E6E92-EB07-43E0-8506-F661A060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A16A19-8081-4197-88CB-2EBF54A9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476C3-4474-4D58-8CAA-0D95C1D1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05D2E-0BE5-4195-B1F8-EDDA22FE1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0C6F-D115-4156-BCF6-AD266E6E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11319-DC1A-4CD8-8C8C-CAB1A4F8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10F71-8BA4-4F56-A4BD-1E2BD029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CD79E-6534-4687-8A37-1D9816D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569E9-BA66-4BEE-B52B-71641CAC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87F98-7416-45AA-9D04-DF37243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A67E39-8545-4445-BD83-C23553DB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66A9F-96A6-472A-925D-CD2FE8C3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17C00-68E1-45E7-9896-E3DD6319A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D1985-37BD-4E0A-9CEA-602CA388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D711-4215-4469-97CD-45C05751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523E-C0B2-4F96-A867-272A57AA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E889C-BD71-4A36-8CCA-4EC918B3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79480-81BF-4A6B-9D08-FA83AAB4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18E9CC-BEC1-44F8-8D9B-90043B53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5337B-5343-45AB-995F-898ECA48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6364-3428-4DFC-9D01-D282DD707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48FC6-7D97-4ED4-844E-4485F815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5BBC-0278-40FD-9323-14579BF0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7A6-D50E-46CC-9A31-4558CD87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CDAFC-713A-47E8-A280-5E41C48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9AD5-5597-420C-9F79-56E7155B0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3BE5D-D919-4236-8AD6-30B741DC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923C-B643-48FE-ADF0-E2CACD99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CA92-6183-46C9-B61D-4B966B4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7FA-1BC1-4B54-B65D-6B86125B4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677C-7299-4962-81EA-0DCC04631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C0AF-CB7F-4B0E-A67C-C2074E4E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6344-3CF3-431A-836A-B1EA5B85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A1ED9-EA63-4637-9EA9-A8B7EB76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85F56-7425-4A85-ABA5-FD5F702D6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5324-6A0A-4166-9984-2A0AAFA1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BCA3-24E5-40C7-99E8-328BCF9C1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FBD67-D433-419C-B29F-F62BD27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C9533-5C4C-4758-A0F8-C804C587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DECC-A9AF-4E3A-8F9A-3FE9578CA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6047-771C-40CD-BF66-B142DF97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0F32-C4A2-4A4F-8D08-19CE361C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61AC-B22B-40E1-8227-7F231656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6324-BCA0-4BE2-9653-01917B9E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853F7-4088-4A16-81D8-C4A294B8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D000-65F5-41F8-A199-E52A3AC9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34C03-431D-4103-A625-9E5C17E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0EF-BD8A-4E37-9486-4C403F41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DAC8-E6BA-4AF8-8F96-273283B9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997F-D68C-441C-96E9-2AD1D7038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84CD1-32B2-4F73-A2EB-1BA49B6E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A7E88-58F7-4544-B03A-DF98D25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EEAAE-5E56-496C-ABD2-5C7FC33D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75771-5101-4E45-B7BB-DBAA7AB3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DD7DC-1D15-49DA-83EC-399650C4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A1DC7-F1D7-4DF4-A0A6-141C1542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902F-65E3-496D-9C56-FAB7DF80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E5F00-3B09-40C2-B32C-A05EE7D6C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2A8C-BE39-4EC7-A358-71E95518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3381-A95C-4AA9-BCEF-0E4FD7BC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669AE-A4CE-4A7B-9232-557FF7A23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BAD85-F0D2-4356-BAA9-52396963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E8ED3-B38F-4DD2-AD60-02D6310E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72614-AECB-4AD5-BD10-2071B77A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C407B-9697-435B-8710-3AF97186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FEE0-5CC5-429D-A535-56276BF8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C9B2-D315-4236-8997-436DFE10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AB668-1169-489C-8B73-E168248D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C67B6-F939-4A8F-A4FC-6E1BF1FF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0A92-18BC-401C-8D2D-56D9A8F1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0F54D-31AC-4BF9-9B41-F1B8F3BB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BB5C7-8F03-498E-825C-4DB5861A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26BF-C852-419B-9B3A-60841443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749C7-FC87-4C48-BB70-D8E25CCA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C1584-BF04-41E2-8343-C55E3698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C1AE1-6913-4C4B-A1DA-2B6EEA234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2D737-59E8-4135-8699-792BB205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17E71-CB92-4B6D-A059-2820748B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D4891-DF45-4075-BEA8-47E90523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1040E-1272-457E-A5EB-7C16517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8D5-E986-4689-A3A3-9C9537AA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550C-9F64-4BD2-8170-2DD3974E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C55EC-3D57-4A69-9016-4F887D8FB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9215A-F065-400E-AD3B-396D71F3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F8C2E-CED1-4C4D-9AE9-3567DCB4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76547-9949-4598-A8DF-51ED0C46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C20B8-D8B4-4ADB-8642-FD7B4249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03C8-CD08-4386-B9BB-D078FEE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C36E-0463-485D-8AC7-85C43AFE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F7B47-6F85-42B3-88FD-2A662B6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9DB8-4031-4BF4-88B4-99707FE9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C22-C406-42F8-A4D7-2AFFEF1D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8B253-7D37-43DC-9517-D3AB8B32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FDD1F-AEB9-4C9D-AEC9-741FCECC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8B1CE-C729-4482-834A-684B3D3D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BDA4C-8D7C-410A-B28F-C22D4F9E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FB33D-B871-4766-A831-59B2527D9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017134-B05D-48A6-AD95-F081A7463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94561-FFC8-49EB-BC0B-E5713706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D2ACB-DEB6-4BF5-A248-ED21EAB0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8FEB-BCC3-40F2-93CB-B008D95F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AF1E67-B643-4396-AB43-E3B4BF8E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4EA-D0B2-4C2A-AD2A-05F83CA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64BC9-E703-4E2C-BBA7-9068169D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0EA9B-598A-4CC9-952C-7BB5959B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F4098-9F47-4750-A336-73573664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274B8-639C-4E1F-B98F-E3AC3B6F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F2AC-8564-410C-8B87-3275EB8E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31C92-75A7-4356-8BC5-76B5B3BD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DF494-B206-40CF-91D5-A27B2C7D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60204-54C2-4825-AB2C-2FDBE3F64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A6685-D939-492D-9FAC-2E46B480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0D6B6E-B86D-4369-9C34-E1BE612F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E50-18F3-4FFE-B0A4-E5A8DC3B271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BA09-0C0C-48F8-8B82-D3E87C999F9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6666-2E2D-42D6-804A-CE1E7DD6B4D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D735-6399-4AE4-9C90-93E2EA960E9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A21-6E3C-41A4-8F5D-F3F7F4D0312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F8F-8349-4002-9C41-1654ACF2CD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FEF1-71CE-4254-BE49-0A31EF08B8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3DE6-E57E-4EB5-BAC7-3FC1C142CFD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FA91-48F2-4A2A-958E-6931DE51524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D2B7-EF09-4FC7-B9ED-B13D71514FA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D8D-AC78-46B7-912F-C7AA96CE9D0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d.wav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t.wav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n.wav" TargetMode="External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hyperlink" Target="file:///l.wav" TargetMode="External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file:///d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file:///t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file:///n.exe" TargetMode="External"/><Relationship Id="rId8" Type="http://schemas.openxmlformats.org/officeDocument/2006/relationships/image" Target="../media/image13.png"/><Relationship Id="rId9" Type="http://schemas.openxmlformats.org/officeDocument/2006/relationships/hyperlink" Target="file:///l.exe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E:\教学资料\杨黎黎教后记\dtnl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452" name="灯片编号占位符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BEAC-CECF-42B3-8DE2-B851D64DDE3A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3" name="页脚占位符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4" name="矩形 12293"/>
          <p:cNvSpPr/>
          <p:nvPr/>
        </p:nvSpPr>
        <p:spPr>
          <a:xfrm>
            <a:off x="0" y="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5" name="矩形 12294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E:\work\新课标配套课件全集\小学全集\mxy\小学语文\图片\0dyd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e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3016440" y="2971800"/>
            <a:ext cx="34063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e   dē   dé   d</a:t>
            </a:r>
            <a:r>
              <a:rPr b="1" lang="en-US" sz="2800" spc="-1" strike="noStrike">
                <a:solidFill>
                  <a:srgbClr val="800080"/>
                </a:solidFill>
                <a:latin typeface="Century Gothic"/>
              </a:rPr>
              <a:t>ě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è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a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ā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á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ǎ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</a:t>
            </a:r>
            <a:r>
              <a:rPr b="1" lang="en-US" sz="2400" spc="-1" strike="noStrike">
                <a:solidFill>
                  <a:srgbClr val="800080"/>
                </a:solidFill>
                <a:latin typeface="Century Gothic"/>
              </a:rPr>
              <a:t>à</a:t>
            </a:r>
            <a:endParaRPr b="1" lang="en-US" sz="24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i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dí 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ǐ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ì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du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ū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dú   d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宋体"/>
              </a:rPr>
              <a:t>ǔ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</a:rPr>
              <a:t>     dù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512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13" name="灯片编号占位符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9E7B-5EBA-4B92-8A57-F5C7C0F6ABEA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14" name="页脚占位符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3" descr="E:\work\新课标配套课件全集\小学全集\mxy\小学语文\图片\yw1p13_top.png"/>
          <p:cNvPicPr/>
          <p:nvPr/>
        </p:nvPicPr>
        <p:blipFill>
          <a:blip r:embed="rId3"/>
          <a:stretch/>
        </p:blipFill>
        <p:spPr>
          <a:xfrm>
            <a:off x="1714680" y="1600200"/>
            <a:ext cx="5715000" cy="3486240"/>
          </a:xfrm>
          <a:prstGeom prst="rect">
            <a:avLst/>
          </a:prstGeom>
          <a:ln w="0">
            <a:noFill/>
          </a:ln>
        </p:spPr>
      </p:pic>
      <p:grpSp>
        <p:nvGrpSpPr>
          <p:cNvPr id="517" name="Group 4"/>
          <p:cNvGrpSpPr/>
          <p:nvPr/>
        </p:nvGrpSpPr>
        <p:grpSpPr>
          <a:xfrm>
            <a:off x="3886200" y="5257800"/>
            <a:ext cx="3657600" cy="1143000"/>
            <a:chOff x="3886200" y="5257800"/>
            <a:chExt cx="3657600" cy="1143000"/>
          </a:xfrm>
        </p:grpSpPr>
        <p:sp>
          <p:nvSpPr>
            <p:cNvPr id="518" name="AutoShape 5"/>
            <p:cNvSpPr/>
            <p:nvPr/>
          </p:nvSpPr>
          <p:spPr>
            <a:xfrm>
              <a:off x="3886200" y="5257800"/>
              <a:ext cx="3657600" cy="1143000"/>
            </a:xfrm>
            <a:prstGeom prst="cloudCallout">
              <a:avLst>
                <a:gd name="adj1" fmla="val -16708"/>
                <a:gd name="adj2" fmla="val -114722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519" name="Rectangle 6"/>
            <p:cNvSpPr/>
            <p:nvPr/>
          </p:nvSpPr>
          <p:spPr>
            <a:xfrm>
              <a:off x="5244840" y="5486400"/>
              <a:ext cx="1238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读一读，编一编。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520" name="Picture 7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1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FB16-66C4-4EA9-AB83-56B64FA0C1C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2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34" descr="E:\work\新课标配套课件全集\小学全集\mxy\小学语文\图片\0cyc.gif"/>
          <p:cNvPicPr/>
          <p:nvPr/>
        </p:nvPicPr>
        <p:blipFill>
          <a:blip r:embed="rId2"/>
          <a:stretch/>
        </p:blipFill>
        <p:spPr>
          <a:xfrm>
            <a:off x="1065240" y="1065240"/>
            <a:ext cx="2000160" cy="571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9" descr="E:\work\新课标配套课件全集\小学全集\mxy\小学语文\图片\yw1p13_top00.png"/>
          <p:cNvPicPr/>
          <p:nvPr/>
        </p:nvPicPr>
        <p:blipFill>
          <a:blip r:embed="rId3"/>
          <a:stretch/>
        </p:blipFill>
        <p:spPr>
          <a:xfrm>
            <a:off x="1143000" y="1684440"/>
            <a:ext cx="4610160" cy="28112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41" descr="E:\work\新课标配套课件全集\小学全集\mxy\小学语文\图片\yw1p13_txt.png"/>
          <p:cNvPicPr/>
          <p:nvPr/>
        </p:nvPicPr>
        <p:blipFill>
          <a:blip r:embed="rId4"/>
          <a:stretch/>
        </p:blipFill>
        <p:spPr>
          <a:xfrm>
            <a:off x="5105520" y="2792520"/>
            <a:ext cx="3268440" cy="33033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2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2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6AC4-F68E-424A-8765-CFA05214A46A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29" name="矩形 2356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灯片编号占位符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E24-000D-4E91-A1B4-0BD562DBDADF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3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4"/>
          <p:cNvSpPr/>
          <p:nvPr/>
        </p:nvSpPr>
        <p:spPr>
          <a:xfrm>
            <a:off x="3200400" y="2438280"/>
            <a:ext cx="3809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悟空本领特别大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天兵天将全不怕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打败哪吒三太子，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</a:rPr>
              <a:t>乐得悟空笑哈哈。</a:t>
            </a: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58" name="Rectangle 5"/>
          <p:cNvSpPr/>
          <p:nvPr/>
        </p:nvSpPr>
        <p:spPr>
          <a:xfrm>
            <a:off x="4079880" y="178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读儿歌：</a:t>
            </a:r>
            <a:endParaRPr b="1" lang="en-US" sz="32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59" name="Picture 6" descr="D:\logo.gif"/>
          <p:cNvPicPr/>
          <p:nvPr/>
        </p:nvPicPr>
        <p:blipFill>
          <a:blip r:embed="rId3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0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2C8D-6F3D-4A50-9DE2-CCFFBADD6011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1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654200" y="1752480"/>
            <a:ext cx="5834160" cy="4424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65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206D-E0A7-450E-A6B1-80F534B6F0C0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66" name="页脚占位符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4">
            <a:hlinkClick r:id="rId3"/>
          </p:cNvPr>
          <p:cNvSpPr/>
          <p:nvPr/>
        </p:nvSpPr>
        <p:spPr>
          <a:xfrm>
            <a:off x="1905120" y="1752480"/>
            <a:ext cx="93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d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69" name="Picture 9" descr="E:\work\新课标配套课件全集\小学全集\mxy\小学语文\图片\yw1p12_d.png"/>
          <p:cNvPicPr/>
          <p:nvPr/>
        </p:nvPicPr>
        <p:blipFill>
          <a:blip r:embed="rId4"/>
          <a:stretch/>
        </p:blipFill>
        <p:spPr>
          <a:xfrm>
            <a:off x="2743200" y="1676520"/>
            <a:ext cx="4572000" cy="462888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0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B0C88-CB50-424B-B66E-6F2D54A3853C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2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3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4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t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75" name="Picture 6" descr="E:\work\新课标配套课件全集\小学全集\mxy\小学语文\图片\yw1p12_t.png"/>
          <p:cNvPicPr/>
          <p:nvPr/>
        </p:nvPicPr>
        <p:blipFill>
          <a:blip r:embed="rId4"/>
          <a:stretch/>
        </p:blipFill>
        <p:spPr>
          <a:xfrm>
            <a:off x="2705040" y="1535040"/>
            <a:ext cx="4000680" cy="45608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7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9129-D211-4F16-BFB6-C7174BD48BEA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78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1026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1027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n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1" name="Picture 1028" descr="E:\work\新课标配套课件全集\小学全集\mxy\小学语文\图片\yw1p12_n.png"/>
          <p:cNvPicPr/>
          <p:nvPr/>
        </p:nvPicPr>
        <p:blipFill>
          <a:blip r:embed="rId4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029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7C45-61D4-4450-BFA6-43252239EB2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84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3">
            <a:hlinkClick r:id="rId3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00080"/>
                </a:solidFill>
                <a:latin typeface="Arial Black"/>
              </a:rPr>
              <a:t>l</a:t>
            </a:r>
            <a:endParaRPr b="1" lang="en-US" sz="6000" spc="-1" strike="noStrike">
              <a:solidFill>
                <a:srgbClr val="800080"/>
              </a:solidFill>
              <a:latin typeface="楷体_GB2312"/>
            </a:endParaRPr>
          </a:p>
        </p:txBody>
      </p:sp>
      <p:pic>
        <p:nvPicPr>
          <p:cNvPr id="487" name="Picture 7" descr="E:\work\新课标配套课件全集\小学全集\mxy\小学语文\图片\yw1p12_l.png"/>
          <p:cNvPicPr/>
          <p:nvPr/>
        </p:nvPicPr>
        <p:blipFill>
          <a:blip r:embed="rId4"/>
          <a:stretch/>
        </p:blipFill>
        <p:spPr>
          <a:xfrm>
            <a:off x="2362320" y="1635120"/>
            <a:ext cx="4572000" cy="38512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D:\logo.gif"/>
          <p:cNvPicPr/>
          <p:nvPr/>
        </p:nvPicPr>
        <p:blipFill>
          <a:blip r:embed="rId5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89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5C4AD-9E1A-4450-BA64-3C484356557E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0" name="页脚占位符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1" name="矩形 18440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www.Lspjy.com </a:t>
            </a:r>
            <a:r>
              <a:rPr b="0" lang="zh-CN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800080"/>
                </a:solidFill>
                <a:latin typeface="Times New Roman"/>
                <a:ea typeface="宋体"/>
              </a:rPr>
              <a:t>http://cz.Lspjy.com</a:t>
            </a:r>
            <a:endParaRPr b="1" lang="en-US" sz="1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E:\work\新课标配套课件全集\小学全集\mxy\小学语文\dyd.gif"/>
          <p:cNvPicPr/>
          <p:nvPr/>
        </p:nvPicPr>
        <p:blipFill>
          <a:blip r:embed="rId2"/>
          <a:stretch/>
        </p:blipFill>
        <p:spPr>
          <a:xfrm>
            <a:off x="1066680" y="1065240"/>
            <a:ext cx="2011320" cy="6174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8" descr="E:\work\新课标配套课件全集\小学全集\mxy\小学语文\图片\yw1p12_z.png"/>
          <p:cNvPicPr/>
          <p:nvPr/>
        </p:nvPicPr>
        <p:blipFill>
          <a:blip r:embed="rId3"/>
          <a:stretch/>
        </p:blipFill>
        <p:spPr>
          <a:xfrm>
            <a:off x="1441440" y="1752480"/>
            <a:ext cx="4121280" cy="3125880"/>
          </a:xfrm>
          <a:prstGeom prst="rect">
            <a:avLst/>
          </a:prstGeom>
          <a:ln w="0">
            <a:noFill/>
          </a:ln>
        </p:spPr>
      </p:pic>
      <p:grpSp>
        <p:nvGrpSpPr>
          <p:cNvPr id="494" name="Group 9"/>
          <p:cNvGrpSpPr/>
          <p:nvPr/>
        </p:nvGrpSpPr>
        <p:grpSpPr>
          <a:xfrm>
            <a:off x="4114800" y="1447920"/>
            <a:ext cx="4724280" cy="1981080"/>
            <a:chOff x="4114800" y="1447920"/>
            <a:chExt cx="4724280" cy="1981080"/>
          </a:xfrm>
        </p:grpSpPr>
        <p:sp>
          <p:nvSpPr>
            <p:cNvPr id="495" name="AutoShape 10"/>
            <p:cNvSpPr/>
            <p:nvPr/>
          </p:nvSpPr>
          <p:spPr>
            <a:xfrm>
              <a:off x="4114800" y="144792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  <p:sp>
          <p:nvSpPr>
            <p:cNvPr id="496" name="Text Box 11"/>
            <p:cNvSpPr/>
            <p:nvPr/>
          </p:nvSpPr>
          <p:spPr>
            <a:xfrm>
              <a:off x="4647960" y="1676520"/>
              <a:ext cx="358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    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再看看图片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,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你发现了什么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能想个办法记住字母吗</a:t>
              </a:r>
              <a:r>
                <a:rPr b="1" lang="zh-CN" sz="2800" spc="-1" strike="noStrike">
                  <a:solidFill>
                    <a:srgbClr val="800080"/>
                  </a:solidFill>
                  <a:latin typeface="宋体"/>
                </a:rPr>
                <a:t>?</a:t>
              </a:r>
              <a:r>
                <a:rPr b="1" lang="zh-CN" sz="2800" spc="-1" strike="noStrike">
                  <a:solidFill>
                    <a:srgbClr val="800080"/>
                  </a:solidFill>
                  <a:latin typeface="楷体_GB2312"/>
                </a:rPr>
                <a:t> </a:t>
              </a:r>
              <a:endParaRPr b="1" lang="en-US" sz="2800" spc="-1" strike="noStrike">
                <a:solidFill>
                  <a:srgbClr val="800080"/>
                </a:solidFill>
                <a:latin typeface="楷体_GB2312"/>
              </a:endParaRPr>
            </a:p>
          </p:txBody>
        </p:sp>
      </p:grpSp>
      <p:pic>
        <p:nvPicPr>
          <p:cNvPr id="497" name="Picture 12" descr="D:\logo.gif"/>
          <p:cNvPicPr/>
          <p:nvPr/>
        </p:nvPicPr>
        <p:blipFill>
          <a:blip r:embed="rId4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498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0B2FC-90B5-4B62-BC71-7D12E50D53D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499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icture 2" descr="E:\work\新课标配套课件全集\小学全集\mxy\小学语文\图片\0xyx.gif"/>
          <p:cNvPicPr/>
          <p:nvPr/>
        </p:nvPicPr>
        <p:blipFill>
          <a:blip r:embed="rId2"/>
          <a:stretch/>
        </p:blipFill>
        <p:spPr>
          <a:xfrm>
            <a:off x="1065240" y="1065240"/>
            <a:ext cx="1977840" cy="54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E:\work\新课标配套课件全集\小学全集\mxy\小学语文\图片\xie_d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E:\work\新课标配套课件全集\小学全集\mxy\小学语文\图片\xie_t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8" descr="E:\work\新课标配套课件全集\小学全集\mxy\小学语文\图片\xie_n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9" descr="E:\work\新课标配套课件全集\小学全集\mxy\小学语文\图片\xie_l.pn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10" descr="D:\logo.gif"/>
          <p:cNvPicPr/>
          <p:nvPr/>
        </p:nvPicPr>
        <p:blipFill>
          <a:blip r:embed="rId11"/>
          <a:stretch/>
        </p:blipFill>
        <p:spPr>
          <a:xfrm>
            <a:off x="7978680" y="6308640"/>
            <a:ext cx="1165320" cy="549360"/>
          </a:xfrm>
          <a:prstGeom prst="rect">
            <a:avLst/>
          </a:prstGeom>
          <a:ln w="0">
            <a:noFill/>
          </a:ln>
        </p:spPr>
      </p:pic>
      <p:sp>
        <p:nvSpPr>
          <p:cNvPr id="506" name="灯片编号占位符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D8BD-2C7E-4CEF-B565-04F515D64D23}" type="slidenum">
              <a:rPr b="0" lang="zh-CN" sz="1400" spc="-1" strike="noStrike">
                <a:solidFill>
                  <a:srgbClr val="80008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800080"/>
              </a:solidFill>
              <a:latin typeface="楷体_GB2312"/>
            </a:endParaRPr>
          </a:p>
        </p:txBody>
      </p:sp>
      <p:sp>
        <p:nvSpPr>
          <p:cNvPr id="507" name="页脚占位符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8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7T10:39:03Z</dcterms:created>
  <dc:creator/>
  <dc:description/>
  <cp:keywords/>
  <dc:language>en-US</dc:language>
  <cp:lastModifiedBy>User</cp:lastModifiedBy>
  <dcterms:modified xsi:type="dcterms:W3CDTF">2016-10-05T12:11:4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